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559675" cy="10691813"/>
  <p:custShowLst>
    <p:custShow name="Nowy niestandardowy pokaz slajd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1FA51A-FA7F-4B0C-9E2A-A012E6F8BA59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SimSun"/>
              </a:rPr>
              <a:t>Konspekt lekcji z biologii – klasa III gimnazj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SimSun"/>
              </a:rPr>
              <a:t>Dział: Ochrona przyr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SimSun"/>
              </a:rPr>
              <a:t>Temat lekcji: Parki narodowe w Pols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SimSun"/>
              </a:rPr>
              <a:t>Cele lekcj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SimSun"/>
              </a:rPr>
              <a:t>uczeń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SimSun"/>
              </a:rPr>
              <a:t>tłumaczy pojęcie „park narodowy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SimSun"/>
              </a:rPr>
              <a:t>wskazuje na mapie Polski parki narod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SimSun"/>
              </a:rPr>
              <a:t>prezentuje wybrane parki narod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SimSun"/>
              </a:rPr>
              <a:t>omawia osobliwości parków narodow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SimSun"/>
              </a:rPr>
              <a:t>Metody i formy pracy: pokaz multimedial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SimSun"/>
              </a:rPr>
              <a:t>Środki dydaktyczne: komputer, projektor multimedialny, ek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SimSun"/>
              </a:rPr>
              <a:t>Prezentacja omawiana przez uczni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DF0F-C381-46E7-B7E5-26152EEE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6055-80E2-4098-9C0F-D5972712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1102-240B-480C-BAC1-3E7040F2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ADAF-DF88-402C-8B10-2A8C1AE56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BF28-96CD-4027-9425-52322E1F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B7C4-DB3C-4782-8415-9E91114D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7A9A-309B-4D51-AB02-12CCEB3E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BC41-9D6C-475E-BBB1-E84C44DB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E926-32D7-48C1-BF06-89FFB168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6F62-B548-417E-8CE0-22D2C2A6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D7D8-3F3F-4FEA-AD49-781B3162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695F-A94C-435D-877E-0C94881A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B9E2A-BC2F-451E-9321-234A2F789645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60360" y="900000"/>
            <a:ext cx="7740720" cy="26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52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9100" spc="-1" strike="noStrike">
                <a:solidFill>
                  <a:srgbClr val="000000"/>
                </a:solidFill>
                <a:latin typeface="Arial"/>
              </a:rPr>
              <a:t>Polskie parki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9100" spc="-1" strike="noStrike">
                <a:solidFill>
                  <a:srgbClr val="000000"/>
                </a:solidFill>
                <a:latin typeface="Arial"/>
              </a:rPr>
              <a:t>narodowe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60000" y="434880"/>
            <a:ext cx="9070920" cy="658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Konspekt lekcji z biologii – klasa III gimnazj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Dział: Ochrona przyr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Temat lekcji: Parki narodowe w Pols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Cele lekcj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ucze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tłumaczy pojęcie „park narodow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skazuje na mapie Polski parki narodo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ezentuje wybrane parki narodo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omawia osobliwości parków narodowy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Metody i formy pracy: pokaz multimedial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Środki dydaktyczne: komputer, projektor multimedialny, ek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ezentacja omawiana przez uczni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680" y="2394000"/>
          <a:ext cx="10100880" cy="1655280"/>
        </p:xfrm>
        <a:graphic>
          <a:graphicData uri="http://schemas.openxmlformats.org/drawingml/2006/table">
            <a:tbl>
              <a:tblPr/>
              <a:tblGrid>
                <a:gridCol w="1251000"/>
                <a:gridCol w="1767240"/>
                <a:gridCol w="1325520"/>
                <a:gridCol w="2210400"/>
                <a:gridCol w="1767240"/>
                <a:gridCol w="1779480"/>
              </a:tblGrid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 założ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ierzch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ha charakterys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Roś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zwierzą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50 hekt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łotniak stawow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eny podmokłe 90% powierzch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zc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łotniak stawow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2217600" y="774720"/>
          <a:ext cx="5521320" cy="844560"/>
        </p:xfrm>
        <a:graphic>
          <a:graphicData uri="http://schemas.openxmlformats.org/drawingml/2006/table">
            <a:tbl>
              <a:tblPr/>
              <a:tblGrid>
                <a:gridCol w="5521320"/>
              </a:tblGrid>
              <a:tr h="84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885960"/>
            <a:ext cx="9036000" cy="1272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Narwiański 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40000" y="4140360"/>
            <a:ext cx="3546720" cy="3181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107964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Ojcowski 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9080" y="2408400"/>
          <a:ext cx="10100880" cy="1655280"/>
        </p:xfrm>
        <a:graphic>
          <a:graphicData uri="http://schemas.openxmlformats.org/drawingml/2006/table">
            <a:tbl>
              <a:tblPr/>
              <a:tblGrid>
                <a:gridCol w="1251000"/>
                <a:gridCol w="1767240"/>
                <a:gridCol w="1325520"/>
                <a:gridCol w="2210040"/>
                <a:gridCol w="1767240"/>
                <a:gridCol w="1779840"/>
              </a:tblGrid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 założ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ierzch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ha charakterys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Roś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unki zwierzą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6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46 hekt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toper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skini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czyk, cha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toperz, borsu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40000" y="4140360"/>
            <a:ext cx="3511800" cy="341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4:44:57Z</dcterms:created>
  <dc:creator>kamil tomaszewski</dc:creator>
  <dc:description/>
  <dc:language>en-US</dc:language>
  <cp:lastModifiedBy>UM</cp:lastModifiedBy>
  <dcterms:modified xsi:type="dcterms:W3CDTF">2010-05-21T08:54:27Z</dcterms:modified>
  <cp:revision>14</cp:revision>
  <dc:subject/>
  <dc:title>Slajd 1</dc:title>
</cp:coreProperties>
</file>